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7AAA-9903-4F5C-946B-56A914CE7F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41B-CA7B-49DB-BE4B-DDDA1DA9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919-3D17-41CC-B050-3F59AAEA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D1F-B2AE-423F-A937-6E41554D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D0A-0581-46FA-B6F3-E8C542CF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4E7B-C566-4D21-810E-BDA08B79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65C6-7FFC-4F0B-9A3E-5ADEE567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03CA-7C5B-441D-B9B5-D980DFA5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5029-00D8-44D4-BD57-D11A9B80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D55B-D0B4-448B-B51E-A7394A72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B189-9652-44DD-A07F-50739A06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E6B9-3C2C-4C72-B55C-EC9C03EA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5E4-349F-40A1-BEBD-39A18E84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DBC2-765F-412F-A2F7-BE3831AC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CDD4-A180-4C16-B9CA-2808C5E6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C033-B5F7-4B03-AD02-3C84E6FA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071A-94C5-406B-800F-BE3DC576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A63C-A0B3-4A61-AC35-10BAA121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8879-FE76-43E0-A874-4A02CDA8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24EE9-B677-4D48-87F5-07394B00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8E9E-B957-4D51-B079-443765E2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9038-020D-4F49-8566-5C1D7A14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F325-608F-4A43-8B8D-425676E4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268-9412-4B16-9CAB-A3208417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A17D-5EDD-4533-AB65-7D2D6C3F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05A96-E8D9-4E33-A6F9-25E75D6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FB742-2D21-4223-A001-6F927B92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F1C0-A44C-4A39-BF72-A15443B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234A-67CE-4AAB-B7FE-D5D75A56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7F34-FCC6-4807-928C-78F80414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F0645-BC11-407B-87B7-AA60AC79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A8B-D9FB-4108-822A-3900B8D4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BD8-3D66-490D-AB3F-DD0525C6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185-E201-4B9A-A376-DF13B640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406-E2F8-4D1D-B9E9-223665DD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1B5-528A-43B1-9B93-D2E35D0A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372-274F-4908-B355-56CD7A56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468C-5F8F-46BF-A5AD-B837ED3B66D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EB88-12FB-4804-BC8C-6E495C396C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8020-48EF-4EF2-AF83-8D21FB112742}" type="slidenum">
              <a:rPr b="0" lang="en-GB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. The French Monarchy in Cri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I. A Moderate Start to the Rev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8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0" y="0"/>
            <a:ext cx="869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 II.  A Moderate Start to the Rev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284720" y="0"/>
            <a:ext cx="504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.  Reforms of the Assembly: 1789 Augu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uprisings forced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ssembly made huge refor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bolished most feudal custo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nded serfdom; ended tax exempt privilege of nob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le citizens eligible for government/church posi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dopted Declaration of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ights of Ma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cratic princip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ity for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tection of personal proper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fluenced by ideas of philosop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gious reforms: 1789-9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eedom of worship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of church given to the govern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itizens could elect bishops/pries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lling of church lan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stitution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anc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mited monarch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paration of powers: executive, legislative, judiciar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ontesquieu’s three branc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untry divided into 83 reg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 rights to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.  Responses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ssatisfied with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ome thought it went too far or not far enoug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nobles fled France 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émigr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oyal family tried to flee but fail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ept under gua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- demands for end of monarchy and establishment of a Republic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ise of radical parties and their representativ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imilian Robespier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476280"/>
            <a:ext cx="450072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.  Estates General to National Assembly: 1789 May-Ju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ach estate elected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wanted all estates to meet together with equal votes for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 the past, estates met separately; had one vote per est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eant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s could outvot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hoped individual deputies from other estates would support the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ed estates to meet separate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declared themselves the National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laimed the right to write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Tennis Court Oa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swore not to leave without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gave in and estates met togeth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vision between and within the esta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B.  Popular Uprisings: 1789 Ju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and workers in Paris wanted quick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till faced inflation, unemployment, food shorta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 troops to Paris; caused more unre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July 14: Paris crowd stormed the Basti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in the countryside turned on landl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aided storehouses, destroyed tax rec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ducting own revol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4960" y="274680"/>
            <a:ext cx="7521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ction Review: page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nis Court Oath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egates of the Third Estate and some nobles and clergy swore an oath not to disband until they had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Assemb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hird Estate declared itself this in order to write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laration of the Rights of Man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opted by the National Assembly – stated the democratic principles that would define the French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ivil Constitution of the Clergy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790, gave the government control of the church and allowed citizens to elect bishops and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Why did the Third Estate want the Estates General to meet as a singl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avoid being outvoted by the First and Second Estates.  If each delegate had a vote then the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Estate, with help from sympathizers from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and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, could win a major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5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at significance did the main events play during the course of the French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Main Even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Significance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A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B.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C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D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E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F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G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H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J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7"/>
          <p:cNvSpPr/>
          <p:nvPr/>
        </p:nvSpPr>
        <p:spPr>
          <a:xfrm>
            <a:off x="900000" y="620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Estates General Summon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900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ird Estate declares itsel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900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Popular uprisings (Paris and peasant revolt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900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forms o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900000" y="3141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900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sponses to 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900000" y="4365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France at wa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900000" y="5013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National Conven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900000" y="5589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Attacks on the Revol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900000" y="6237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ign of Terr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572000" y="620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4572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4572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4572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4572000" y="3141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4572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4572000" y="4365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Text Box 64"/>
          <p:cNvSpPr/>
          <p:nvPr/>
        </p:nvSpPr>
        <p:spPr>
          <a:xfrm>
            <a:off x="4572000" y="5013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4572000" y="5589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Text Box 66"/>
          <p:cNvSpPr/>
          <p:nvPr/>
        </p:nvSpPr>
        <p:spPr>
          <a:xfrm>
            <a:off x="4572000" y="6237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is meant by a country’s econom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happens when a country’s economy is prospe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Define: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The production, distribution, and consumption of 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Distrib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Consump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aking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o receives the products and how much they rece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at kind of products are purcha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025280"/>
            <a:ext cx="421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.  The French Monarchy in Cr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.  Overview of France: 17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B.  The Old Regime (Anciem Reg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arch has absolut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entralized power in royal ‘bureaucra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work to preserve royal authority and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ople divided into three estates (cla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rst: clergy; second: nobility; third: comm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4720" y="98064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First Estate: Cl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1025640"/>
            <a:ext cx="4211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  Third Estate:  Common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98% of popul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cluded the bourgeoisie (middle class), peasants,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ourgeoisie resented the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elieved in equality and social justi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alled for tax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better off than elsewhere but not by mu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rfdom but still had old feudal du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ad to do unpaid service for landlords/monar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eavy taxes, church tithe, r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ffered from inflation because food prices r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sented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9" descr="Third Estate"/>
          <p:cNvPicPr/>
          <p:nvPr/>
        </p:nvPicPr>
        <p:blipFill>
          <a:blip r:embed="rId1"/>
          <a:stretch/>
        </p:blipFill>
        <p:spPr>
          <a:xfrm>
            <a:off x="4643280" y="1125360"/>
            <a:ext cx="4044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7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llumination Medieval - cleric, knight, workman"/>
          <p:cNvPicPr/>
          <p:nvPr/>
        </p:nvPicPr>
        <p:blipFill>
          <a:blip r:embed="rId1"/>
          <a:stretch/>
        </p:blipFill>
        <p:spPr>
          <a:xfrm>
            <a:off x="5364000" y="404640"/>
            <a:ext cx="3522960" cy="360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irst Estate"/>
          <p:cNvPicPr/>
          <p:nvPr/>
        </p:nvPicPr>
        <p:blipFill>
          <a:blip r:embed="rId2"/>
          <a:stretch/>
        </p:blipFill>
        <p:spPr>
          <a:xfrm>
            <a:off x="1403280" y="2492280"/>
            <a:ext cx="2862360" cy="383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ouis XVI Sun King"/>
          <p:cNvPicPr/>
          <p:nvPr/>
        </p:nvPicPr>
        <p:blipFill>
          <a:blip r:embed="rId3"/>
          <a:stretch/>
        </p:blipFill>
        <p:spPr>
          <a:xfrm>
            <a:off x="250920" y="1484280"/>
            <a:ext cx="322416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96480"/>
            <a:ext cx="65422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tion Review: pag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. What groups made up each of the three estates in France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First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higher clergy, who were also nobles; parish priests, who were common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Secon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no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Thir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commoners – bourgeoisie (middle class), peasants, city wor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b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What privileges did the First and Second Estates enjo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Higher clerg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 lived in luxury – some in Versailles. Owned vast amount of land and paid no tax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Nobilit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many had great wealth; exempt from most taxes; collected feudal du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 List three factors that contributed to the French economic crisis of the 1770’s and 1780’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poor harvests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trade regulations (tolls)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guild monopol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huge debt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support of American Revolu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borrowed money to support Versailles and fight wars in Europe and overse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620640"/>
            <a:ext cx="4211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C.  The Growing Economic Cri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In General: 170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y prosper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pulation growth – 18 million to 25 mill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od surpluses helped textile/mining industr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ercantilism: export more than you impor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Hardships: 1770’s/8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iddle Age reg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axing on merchant tra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opolies by guilds made it difficult for entrepren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 government debt high and increas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o pay for w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pport the Versailles Cou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American Revolution doub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XVI was not an able rul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211640" y="476280"/>
            <a:ext cx="46432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.  Reform Attempts: 1774-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appointed Robert Turgot as finance minister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ed government financial spending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duced court expens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moved internal customs taxes on foo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mited power of some guild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urgot attempted to tax nobles (a major reform)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ttle succes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needed the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rlemen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to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 this tax but they we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ed by nobl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bles of the Rob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rejected th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e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dismissed Turgot in 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.  The Writing on the Wall:  1776-1788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government secured new bank loa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helped only for a little whi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6: bankers refused to lend more mone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7 and 1788: had poor harvest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bread shortages upset peop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went to Parlements for a new tax, his wishes were rejecte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called for the Estates General to meet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Estates General represented all three estat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hoped to win support for reforms that would restore economic stabilit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aramond"/>
              </a:rPr>
              <a:t>What were the main causes of the French Revolution?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522360"/>
          <a:ext cx="9144000" cy="6335640"/>
        </p:xfrm>
        <a:graphic>
          <a:graphicData uri="http://schemas.openxmlformats.org/drawingml/2006/table">
            <a:tbl>
              <a:tblPr/>
              <a:tblGrid>
                <a:gridCol w="3635280"/>
                <a:gridCol w="2808360"/>
                <a:gridCol w="270036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ievanc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risi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ailed Reform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7"/>
          <p:cNvSpPr/>
          <p:nvPr/>
        </p:nvSpPr>
        <p:spPr>
          <a:xfrm>
            <a:off x="0" y="1052640"/>
            <a:ext cx="36352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708360" y="1052640"/>
            <a:ext cx="2664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6516720" y="1052640"/>
            <a:ext cx="2627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2:19:57Z</dcterms:created>
  <dc:creator>DELI</dc:creator>
  <dc:description/>
  <dc:language>en-US</dc:language>
  <cp:lastModifiedBy>RomaK</cp:lastModifiedBy>
  <dcterms:modified xsi:type="dcterms:W3CDTF">2015-09-04T09:34:08Z</dcterms:modified>
  <cp:revision>50</cp:revision>
  <dc:subject/>
  <dc:title>Unit Two The French Revolution and Napoleon</dc:title>
</cp:coreProperties>
</file>